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FD5-6C88-4EB3-B0F0-3EA83418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C96-78DA-4225-B789-C0B74CD8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E79-3474-4B16-A1AE-E6524C88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04C-24E0-4798-B363-F2CDE018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EE3-C16C-4365-B7A8-D43DB727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DB5-84A6-4FEE-B41F-7F5FF306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F37-AF93-421B-BB90-E416324C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18A-9C47-4B41-8108-4E45E755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EC8-9694-4E66-BF33-D4BD3592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B38-D862-4068-BD8F-398B16D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526-7AA3-4B4F-8A7A-E633FA4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6BF-0BC1-41D8-8EAA-EC3D3447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6E34-51D6-47EA-AF1E-13C36B9487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nferior_pancreaticoduodenal_artery" TargetMode="External"/><Relationship Id="rId2" Type="http://schemas.openxmlformats.org/officeDocument/2006/relationships/hyperlink" Target="http://en.wikipedia.org/wiki/Pancreas" TargetMode="External"/><Relationship Id="rId3" Type="http://schemas.openxmlformats.org/officeDocument/2006/relationships/hyperlink" Target="http://en.wikipedia.org/wiki/Duodenum" TargetMode="External"/><Relationship Id="rId4" Type="http://schemas.openxmlformats.org/officeDocument/2006/relationships/hyperlink" Target="http://en.wikipedia.org/wiki/Middle_colic_artery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9172b"/>
                </a:solidFill>
                <a:latin typeface="Arial"/>
              </a:rPr>
              <a:t>Superior mesenteric </a:t>
            </a:r>
            <a:br>
              <a:rPr sz="5400"/>
            </a:br>
            <a:r>
              <a:rPr b="0" lang="en-US" sz="5400" spc="-1" strike="noStrike">
                <a:solidFill>
                  <a:srgbClr val="e9172b"/>
                </a:solidFill>
                <a:latin typeface="Arial"/>
              </a:rPr>
              <a:t>arte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Origi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descending abdominal aorta 1cm below coeliac trunk at the level of lower border of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b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origin"/>
          <p:cNvPicPr/>
          <p:nvPr/>
        </p:nvPicPr>
        <p:blipFill>
          <a:blip r:embed="rId1"/>
          <a:stretch/>
        </p:blipFill>
        <p:spPr>
          <a:xfrm>
            <a:off x="2484360" y="3357720"/>
            <a:ext cx="3888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ourse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3168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ccompanied by superior mesenteric vein on its right side and both of them run in the root of mesen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ourse"/>
          <p:cNvPicPr/>
          <p:nvPr/>
        </p:nvPicPr>
        <p:blipFill>
          <a:blip r:embed="rId1"/>
          <a:stretch/>
        </p:blipFill>
        <p:spPr>
          <a:xfrm>
            <a:off x="4140360" y="1413000"/>
            <a:ext cx="4824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Structures supplied by SMA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uppli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g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id gut"/>
          <p:cNvPicPr/>
          <p:nvPr/>
        </p:nvPicPr>
        <p:blipFill>
          <a:blip r:embed="rId1"/>
          <a:stretch/>
        </p:blipFill>
        <p:spPr>
          <a:xfrm>
            <a:off x="250920" y="2060640"/>
            <a:ext cx="4248000" cy="432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mid"/>
          <p:cNvPicPr/>
          <p:nvPr/>
        </p:nvPicPr>
        <p:blipFill>
          <a:blip r:embed="rId2"/>
          <a:stretch/>
        </p:blipFill>
        <p:spPr>
          <a:xfrm>
            <a:off x="4716360" y="2060640"/>
            <a:ext cx="3976920" cy="43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nches of sup. mesenteric 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249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ferior pancreaticoduodenal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cr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o the descending and inferior parts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uode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ddle colic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Supplies to the transverse col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colic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scending col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stinal arte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branches to ileum,  jejun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eocolic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(terminal branch of the SMA) supplies last part of ileum, cecum, and append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termi"/>
          <p:cNvPicPr/>
          <p:nvPr/>
        </p:nvPicPr>
        <p:blipFill>
          <a:blip r:embed="rId5"/>
          <a:stretch/>
        </p:blipFill>
        <p:spPr>
          <a:xfrm>
            <a:off x="4211640" y="1916280"/>
            <a:ext cx="47624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mall intestin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nvoluted tube, about 6 meters long, extending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ylor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eo-cecal va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tuated centrally in the abdominal cavity and is flanked laterally and superiorly by the large intest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64216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ision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uodenum    2. Jejunum           3. Il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ejunum and ile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orm the mobile part of the small intestine, suspended from the posterior abdominal wall by a mesen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junum              Ile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ximal 2/5 (8 feet)   distal 3/5 (12 f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meter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               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arc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and simple           Numerous and compl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3438360" cy="27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5148360" y="3500280"/>
            <a:ext cx="338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ejunum              Il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-  Mesentery: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fat,+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fa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Mucosal Circular Folds:   Numerous                        F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Plica Circu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flylib.com/books/3/98/1/html/2/135_files/DA2DB3DC4C135FF1.png"/>
          <p:cNvPicPr/>
          <p:nvPr/>
        </p:nvPicPr>
        <p:blipFill>
          <a:blip r:embed="rId1"/>
          <a:stretch/>
        </p:blipFill>
        <p:spPr>
          <a:xfrm>
            <a:off x="2268360" y="141300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Jejunum Partly Opened"/>
          <p:cNvPicPr/>
          <p:nvPr/>
        </p:nvPicPr>
        <p:blipFill>
          <a:blip r:embed="rId2"/>
          <a:stretch/>
        </p:blipFill>
        <p:spPr>
          <a:xfrm>
            <a:off x="2124000" y="436572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leum Partly Opened (Toldt)"/>
          <p:cNvPicPr/>
          <p:nvPr/>
        </p:nvPicPr>
        <p:blipFill>
          <a:blip r:embed="rId3"/>
          <a:stretch/>
        </p:blipFill>
        <p:spPr>
          <a:xfrm>
            <a:off x="5724360" y="443700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junum          Il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 Wall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   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thick                    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er’s patches:   -ve                  +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248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entery of the small intest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s a fan- shaped peritoneal fold which has an anterior free border and posterior attached border. The anterior border contains the jejunum and ileum and is 6 meter long. The posterior border is the root of mesentery and is 6 inches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32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s crossed by the root of the mesentery (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part of duode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aorta and right gonadal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C.   Right psoas major.  Right u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genitor-femoral ner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06600" y="2538360"/>
            <a:ext cx="7632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321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 of the mesente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mesenteric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mesenteric v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ls of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peritoneal tissue and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enteric LN (arranged in three groups: large, medium, and small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640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1:30:00Z</dcterms:created>
  <dc:creator>Prof. Dr. Shawky</dc:creator>
  <dc:description/>
  <dc:language>en-US</dc:language>
  <cp:lastModifiedBy>Safa Osman</cp:lastModifiedBy>
  <dcterms:modified xsi:type="dcterms:W3CDTF">2016-02-22T12:50:00Z</dcterms:modified>
  <cp:revision>9</cp:revision>
  <dc:subject/>
  <dc:title>Slide 1</dc:title>
</cp:coreProperties>
</file>